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wmf" ContentType="image/x-wmf"/>
  <Override PartName="/ppt/media/image8.jpeg" ContentType="image/jpe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Arial"/>
              </a:rPr>
              <a:t>Click to move the slide</a:t>
            </a:r>
            <a:endParaRPr b="0" lang="en-US" sz="5000" spc="-1" strike="noStrike">
              <a:solidFill>
                <a:srgbClr val="dedede"/>
              </a:solidFill>
              <a:latin typeface="Arial"/>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CBEA-D881-4796-AA3C-071E6DB2BF4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6199-487B-4F9C-A519-F2AC9A6240F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9CFFE-B972-451A-A0FB-CCC8B13C0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44768-CF58-4374-B6CE-0E85C3CA0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CEE57-73D2-4F78-BF0C-5A57563D00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C9DCA7-B11A-4FB3-9727-61F6ACF580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EBF16-3F98-45B6-8D46-8163211DB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B5AA73-99E6-48DA-9E13-213F357610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E389DE-0557-4082-8790-852B3C918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76822-D253-4270-870F-DECAE7245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E822E7-2EB1-4C9E-93EB-3542FBBEE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C2966-B155-455A-9214-4DDE67650E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9F72A-73F9-49D8-AE09-45E649CC8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6F137-E721-4D66-9FC7-1AAB9066E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6ADC9-8D61-4F7F-B561-25DBDD339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21CF6-0D59-4E2B-AF90-4D51079A72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6951A-8323-487F-A4A0-7E5748D37A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9E8FC0-74BD-4F30-B3D0-A6B9BFAB8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AAB14B-1B84-4905-866C-71A9469FF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6C4FFA-2EEA-426F-883D-5A981C2EE9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98D1E-7F55-41E3-8956-432DB8B17A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AC928-EC14-42D7-BADC-342EF48D00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4DB36-19C6-4F16-BC16-B72FB9E9E0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490E70-A8E9-45A3-9846-269DBA6D0C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AAEE0-A177-4AB0-A7B4-645747704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30A8A9-8B2A-43BE-B0C8-CF6A32C074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E73E5D-2ABF-43CF-92B6-F11D2A1B6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C7288-F6BF-40B4-9091-E8874545A3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78A86-DEDC-4FBE-A3AA-5E7704C80C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CE61E-1E24-418C-ADBB-8DF0BA248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B49DFF-AED7-40CD-95FB-0B489A548C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89F1D4-E5C1-47E9-B494-CF7844441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81E27B-E8D2-474E-B0F5-1E34FA5D157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C98B7-490F-437F-865D-0EEAA6178E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75804C5-F874-4F68-9F7F-37743A7D32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56F2B-C8D4-486B-B428-AB37A10EB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7CC18-57B3-464C-8C14-8E90A5618D9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831A0B-4519-4B69-91A0-36183316D0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B7B5F8-71C0-408A-A22B-DCAE75DEF7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CFDFE-9B13-4084-AC97-B3551CAA16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800BA4-4082-4816-9855-FC2F67EAE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A87091-84F9-40AB-AE3D-DB4B8EF0F4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47A25A-47F2-49F6-95BD-22692F1906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F5C54-4D0C-4E2C-A91E-E68ADF0B90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569765-72A2-4DE5-83E0-0A216B9A43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415BE-C7C1-4366-A841-F7649D0E2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C0785-7AD3-40D5-9BB1-2D740F030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364D4-F414-4393-B80D-094A61D3A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6F3F-72D8-4ADB-AF08-25BAF25028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24456"/>
              </a:solidFill>
              <a:latin typeface="Arial"/>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BC6EC-834C-41E8-9DCC-30654EEDE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lick to edit the title text format</a:t>
            </a:r>
            <a:endParaRPr b="0" lang="en-US" sz="5000" spc="-1" strike="noStrike">
              <a:solidFill>
                <a:srgbClr val="424456"/>
              </a:solidFill>
              <a:latin typeface="Arial"/>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F5D3-14ED-4439-AB1B-23ADB41E0316}"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56" name="Freeform 12"/>
            <p:cNvGrpSpPr/>
            <p:nvPr/>
          </p:nvGrpSpPr>
          <p:grpSpPr>
            <a:xfrm>
              <a:off x="-19080" y="248040"/>
              <a:ext cx="9181080" cy="565200"/>
              <a:chOff x="-19080" y="248040"/>
              <a:chExt cx="9181080" cy="565200"/>
            </a:xfrm>
          </p:grpSpPr>
          <p:pic>
            <p:nvPicPr>
              <p:cNvPr id="57" name="Freeform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Arial"/>
              </a:rPr>
              <a:t>Click to edit the title text format</a:t>
            </a:r>
            <a:endParaRPr b="0" lang="en-US" sz="5000" spc="-1" strike="noStrike">
              <a:solidFill>
                <a:srgbClr val="dedede"/>
              </a:solidFill>
              <a:latin typeface="Arial"/>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4d4"/>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2569D-1B2B-4276-977C-B84CADFF120B}"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nvGrpSpPr>
            <p:cNvPr id="106" name="Freeform 12"/>
            <p:cNvGrpSpPr/>
            <p:nvPr/>
          </p:nvGrpSpPr>
          <p:grpSpPr>
            <a:xfrm>
              <a:off x="-19080" y="248040"/>
              <a:ext cx="9181080" cy="565200"/>
              <a:chOff x="-19080" y="248040"/>
              <a:chExt cx="9181080" cy="565200"/>
            </a:xfrm>
          </p:grpSpPr>
          <p:pic>
            <p:nvPicPr>
              <p:cNvPr id="107" name="Freeform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Times New Roman"/>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dede"/>
                </a:solidFill>
                <a:latin typeface="Arial"/>
              </a:rPr>
              <a:t>Click to edit the title text format</a:t>
            </a:r>
            <a:endParaRPr b="0" lang="en-US" sz="5000" spc="-1" strike="noStrike">
              <a:solidFill>
                <a:srgbClr val="dedede"/>
              </a:solidFill>
              <a:latin typeface="Arial"/>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Click to edit the outline text format</a:t>
            </a:r>
            <a:endParaRPr b="0" lang="en-US" sz="2600" spc="-1" strike="noStrike">
              <a:solidFill>
                <a:srgbClr val="ffffff"/>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cond Outline Level</a:t>
            </a:r>
            <a:endParaRPr b="0" lang="en-US" sz="2600" spc="-1" strike="noStrike">
              <a:solidFill>
                <a:srgbClr val="ffffff"/>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Third Outline Level</a:t>
            </a:r>
            <a:endParaRPr b="0" lang="en-US" sz="2600" spc="-1" strike="noStrike">
              <a:solidFill>
                <a:srgbClr val="ffffff"/>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ourth Outline Level</a:t>
            </a:r>
            <a:endParaRPr b="0" lang="en-US" sz="2600" spc="-1" strike="noStrike">
              <a:solidFill>
                <a:srgbClr val="ffffff"/>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Fifth Outline Level</a:t>
            </a:r>
            <a:endParaRPr b="0" lang="en-US" sz="2600" spc="-1" strike="noStrike">
              <a:solidFill>
                <a:srgbClr val="ffffff"/>
              </a:solidFill>
              <a:latin typeface="Times New Roman"/>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ixth Outline Level</a:t>
            </a:r>
            <a:endParaRPr b="0" lang="en-US" sz="2600" spc="-1" strike="noStrike">
              <a:solidFill>
                <a:srgbClr val="ffffff"/>
              </a:solidFill>
              <a:latin typeface="Times New Roman"/>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Seventh Outline Level</a:t>
            </a:r>
            <a:endParaRPr b="0" lang="en-US" sz="2600" spc="-1" strike="noStrike">
              <a:solidFill>
                <a:srgbClr val="ffffff"/>
              </a:solidFill>
              <a:latin typeface="Times New Roman"/>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d4d4"/>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d4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50032-44F4-41F9-A8FB-BD0205DFDB6A}" type="slidenum">
              <a:rPr b="0" lang="en-US" sz="1200" spc="-1" strike="noStrike">
                <a:solidFill>
                  <a:srgbClr val="d4d4d4"/>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Times New Roman"/>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2a6066">
                  <a:alpha val="45098"/>
                </a:srgbClr>
              </a:gs>
              <a:gs pos="100000">
                <a:srgbClr val="a52fa9">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7d2c80">
                  <a:alpha val="45098"/>
                </a:srgbClr>
              </a:gs>
              <a:gs pos="100000">
                <a:srgbClr val="2e7a81">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Times New Roman"/>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lick to edit the title text format</a:t>
            </a:r>
            <a:endParaRPr b="0" lang="en-US" sz="5000" spc="-1" strike="noStrike">
              <a:solidFill>
                <a:srgbClr val="424456"/>
              </a:solidFill>
              <a:latin typeface="Arial"/>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lick to edit the outline text format</a:t>
            </a:r>
            <a:endParaRPr b="0" lang="en-US" sz="2600" spc="-1" strike="noStrike">
              <a:solidFill>
                <a:srgbClr val="000000"/>
              </a:solidFill>
              <a:latin typeface="Times New Roman"/>
            </a:endParaRPr>
          </a:p>
          <a:p>
            <a:pPr lvl="1" marL="639720" indent="-245880">
              <a:spcBef>
                <a:spcPts val="649"/>
              </a:spcBef>
              <a:buClr>
                <a:srgbClr val="53548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cond Outline Level</a:t>
            </a:r>
            <a:endParaRPr b="0" lang="en-US" sz="2600" spc="-1" strike="noStrike">
              <a:solidFill>
                <a:srgbClr val="000000"/>
              </a:solidFill>
              <a:latin typeface="Times New Roman"/>
            </a:endParaRPr>
          </a:p>
          <a:p>
            <a:pPr lvl="2" marL="914400" indent="-246240">
              <a:spcBef>
                <a:spcPts val="649"/>
              </a:spcBef>
              <a:buClr>
                <a:srgbClr val="43808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rd Outline Level</a:t>
            </a:r>
            <a:endParaRPr b="0" lang="en-US" sz="2600" spc="-1" strike="noStrike">
              <a:solidFill>
                <a:srgbClr val="000000"/>
              </a:solidFill>
              <a:latin typeface="Times New Roman"/>
            </a:endParaRPr>
          </a:p>
          <a:p>
            <a:pPr lvl="3" marL="1187280" indent="-209520">
              <a:spcBef>
                <a:spcPts val="649"/>
              </a:spcBef>
              <a:buClr>
                <a:srgbClr val="a04da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ourth Outline Level</a:t>
            </a:r>
            <a:endParaRPr b="0" lang="en-US" sz="2600" spc="-1" strike="noStrike">
              <a:solidFill>
                <a:srgbClr val="000000"/>
              </a:solidFill>
              <a:latin typeface="Times New Roman"/>
            </a:endParaRPr>
          </a:p>
          <a:p>
            <a:pPr lvl="4" marL="1461960" indent="-209520">
              <a:spcBef>
                <a:spcPts val="649"/>
              </a:spcBef>
              <a:buClr>
                <a:srgbClr val="c4652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ifth Outline Level</a:t>
            </a:r>
            <a:endParaRPr b="0" lang="en-US" sz="2600" spc="-1" strike="noStrike">
              <a:solidFill>
                <a:srgbClr val="000000"/>
              </a:solidFill>
              <a:latin typeface="Times New Roman"/>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xth Outline Level</a:t>
            </a:r>
            <a:endParaRPr b="0" lang="en-US" sz="2600" spc="-1" strike="noStrike">
              <a:solidFill>
                <a:srgbClr val="000000"/>
              </a:solidFill>
              <a:latin typeface="Times New Roman"/>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eventh Outline Level</a:t>
            </a:r>
            <a:endParaRPr b="0" lang="en-US" sz="2600" spc="-1" strike="noStrike">
              <a:solidFill>
                <a:srgbClr val="000000"/>
              </a:solidFill>
              <a:latin typeface="Times New Roman"/>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4052"/>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405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AAC56-6C94-4E70-BE31-0F39CA67CEA0}" type="slidenum">
              <a:rPr b="0" lang="en-US" sz="1200" spc="-1" strike="noStrike">
                <a:solidFill>
                  <a:srgbClr val="3f405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8.jpeg"/><Relationship Id="rId4" Type="http://schemas.openxmlformats.org/officeDocument/2006/relationships/image" Target="../media/image7.wmf"/><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le 1" descr=""/>
          <p:cNvPicPr/>
          <p:nvPr/>
        </p:nvPicPr>
        <p:blipFill>
          <a:blip r:embed="rId1"/>
          <a:stretch/>
        </p:blipFill>
        <p:spPr>
          <a:xfrm>
            <a:off x="530280" y="1365120"/>
            <a:ext cx="8308800" cy="190188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imes New Roman"/>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y : E.B. White</a:t>
            </a:r>
            <a:endParaRPr b="0" lang="en-US" sz="2600" spc="-1" strike="noStrike">
              <a:solidFill>
                <a:srgbClr val="ffffff"/>
              </a:solidFill>
              <a:latin typeface="Times New Roman"/>
            </a:endParaRPr>
          </a:p>
        </p:txBody>
      </p:sp>
      <p:pic>
        <p:nvPicPr>
          <p:cNvPr id="204" name="Picture 2" descr="C:\Users\Guest\AppData\Local\Microsoft\Windows\Temporary Internet Files\Content.IE5\G2CVLQY1\MCj04247120000[1].wmf"/>
          <p:cNvPicPr/>
          <p:nvPr/>
        </p:nvPicPr>
        <p:blipFill>
          <a:blip r:embed="rId2"/>
          <a:stretch/>
        </p:blipFill>
        <p:spPr>
          <a:xfrm>
            <a:off x="2133720" y="3962520"/>
            <a:ext cx="1850760" cy="1574640"/>
          </a:xfrm>
          <a:prstGeom prst="rect">
            <a:avLst/>
          </a:prstGeom>
          <a:ln w="0">
            <a:noFill/>
          </a:ln>
        </p:spPr>
      </p:pic>
      <p:pic>
        <p:nvPicPr>
          <p:cNvPr id="205" name="Picture 3" descr="C:\Users\Guest\AppData\Local\Microsoft\Windows\Temporary Internet Files\Content.IE5\TO40TXOF\MPj04275970000[1].jpg"/>
          <p:cNvPicPr/>
          <p:nvPr/>
        </p:nvPicPr>
        <p:blipFill>
          <a:blip r:embed="rId3"/>
          <a:stretch/>
        </p:blipFill>
        <p:spPr>
          <a:xfrm>
            <a:off x="1523880" y="3809880"/>
            <a:ext cx="3048120" cy="2514600"/>
          </a:xfrm>
          <a:prstGeom prst="rect">
            <a:avLst/>
          </a:prstGeom>
          <a:ln w="0">
            <a:noFill/>
          </a:ln>
        </p:spPr>
      </p:pic>
      <p:pic>
        <p:nvPicPr>
          <p:cNvPr id="206" name="Picture 4" descr="C:\Users\Guest\AppData\Local\Microsoft\Windows\Temporary Internet Files\Content.IE5\G2CVLQY1\MCj04247120000[1].wmf"/>
          <p:cNvPicPr/>
          <p:nvPr/>
        </p:nvPicPr>
        <p:blipFill>
          <a:blip r:embed="rId4"/>
          <a:stretch/>
        </p:blipFill>
        <p:spPr>
          <a:xfrm>
            <a:off x="2362320" y="3886200"/>
            <a:ext cx="1850760" cy="157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                 </a:t>
            </a:r>
            <a:r>
              <a:rPr b="0" lang="en-US" sz="5000" spc="-1" strike="noStrike">
                <a:solidFill>
                  <a:srgbClr val="424456"/>
                </a:solidFill>
                <a:latin typeface="Arial"/>
              </a:rPr>
              <a:t>Teaser</a:t>
            </a:r>
            <a:endParaRPr b="0" lang="en-US" sz="5000" spc="-1" strike="noStrike">
              <a:solidFill>
                <a:srgbClr val="424456"/>
              </a:solidFill>
              <a:latin typeface="Arial"/>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k  so if you are reading this you are probably the someone in the school or a parent. So now I will give you a glimps of what it is about . Ok so it is about a swan named Louis, he has a speech disorder so he can not talk . His father steals a trumpet. Then Louis gets a job to pay off his fathers debt. Soon he becomes famous. If you really want to hear the whole story you can go ahead and read the book. This was made by: T.J. , Jozee , and Taylor.</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1-5</a:t>
            </a:r>
            <a:endParaRPr b="0" lang="en-US" sz="5000" spc="-1" strike="noStrike">
              <a:solidFill>
                <a:srgbClr val="424456"/>
              </a:solidFill>
              <a:latin typeface="Arial"/>
            </a:endParaRPr>
          </a:p>
        </p:txBody>
      </p:sp>
      <p:pic>
        <p:nvPicPr>
          <p:cNvPr id="210" name="Content Placeholder 2" descr=""/>
          <p:cNvPicPr/>
          <p:nvPr/>
        </p:nvPicPr>
        <p:blipFill>
          <a:blip r:embed="rId1"/>
          <a:stretch/>
        </p:blipFill>
        <p:spPr>
          <a:xfrm>
            <a:off x="298440" y="1822320"/>
            <a:ext cx="8601120" cy="4614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5 -10</a:t>
            </a:r>
            <a:endParaRPr b="0" lang="en-US" sz="5000" spc="-1" strike="noStrike">
              <a:solidFill>
                <a:srgbClr val="424456"/>
              </a:solidFill>
              <a:latin typeface="Arial"/>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ne day the cob said to his mate, “Have you noticed that one of our children is different from the others? The one we call Louis?” “ Well, I see no difference from Louis than the others,” said the mother.. Well I think that they finally came to their senses and figured out that their son could not talk. So his father brought him to a place in the pond and told him he was dumb. The kind of dumb as can’t talk. So then he taught the little swans how to fly,  then they all went to the Red Rock Lake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10-15</a:t>
            </a:r>
            <a:endParaRPr b="0" lang="en-US" sz="5000" spc="-1" strike="noStrike">
              <a:solidFill>
                <a:srgbClr val="424456"/>
              </a:solidFill>
              <a:latin typeface="Arial"/>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y got to the Red Rock Lakes Louis decided since nobody could understand him he would go with Sam to school. When Sam and Louis got to school Sam showed his teacher Ms. Hammerbotham Louis, but she said for Sam to  show her what he can do. When she saw what he could do she said he was intelligent and that he can go to school. So after ten weeks Sam and Louis got out of school. When they got out Sam told Louis about Boston. So when he was about  to leave he thought about his mom and dad so he went to Red Rock  Lakes. So when he got there he saw that his dad had stole him a trumpet. Then  he found a girl he liked but she could not read so he went on to Boston. So when he got there he got a job on a swan bo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          </a:t>
            </a:r>
            <a:r>
              <a:rPr b="0" lang="en-US" sz="5000" spc="-1" strike="noStrike">
                <a:solidFill>
                  <a:srgbClr val="424456"/>
                </a:solidFill>
                <a:latin typeface="Arial"/>
              </a:rPr>
              <a:t>Chapter 15-20</a:t>
            </a:r>
            <a:endParaRPr b="0" lang="en-US" sz="5000" spc="-1" strike="noStrike">
              <a:solidFill>
                <a:srgbClr val="424456"/>
              </a:solidFill>
              <a:latin typeface="Arial"/>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01"/>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 he had worked there a week he stayed at the Ritz Hotel. It was  a very fancy hotel.The next day he got a letter to come to a night club perform. After ten weeks he got another letter. This time it was to go to a zoo to meet someone. So he flew there.After getting there and talking the man talked about getting his wing clipped so he can not fly away.Then Louis wrote that he would play concerts every Sunday if he did not get his wing clipped. The man said yes. Then after a while his girlfriend fell from the sky when she woke they fell in love. Well the man wanted her to get her wing clipped and to stay in the zoo and have eggs. Well Louis did not like the idea so he hit the men who where trying to clip her wing he knocked one out and then he hit the other one in the butt with his bea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24456"/>
                </a:solidFill>
                <a:latin typeface="Arial"/>
              </a:rPr>
              <a:t>Chapter 20-21</a:t>
            </a:r>
            <a:endParaRPr b="0" lang="en-US" sz="5000" spc="-1" strike="noStrike">
              <a:solidFill>
                <a:srgbClr val="424456"/>
              </a:solidFill>
              <a:latin typeface="Arial"/>
            </a:endParaRPr>
          </a:p>
        </p:txBody>
      </p:sp>
      <p:sp>
        <p:nvSpPr>
          <p:cNvPr id="2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few days later he left the zoo with Serena.When they were up in the sky, Serena gave him a special look. A look that no one had ever gave him . Serena looked at all the things on his neck, the chalk board , the life saving medal, the trumpet and the money bag. In a few hours they were back  at the  Red Rock Lakes. When they got there he found his mother and father he went to his father to give him the money so that way he could go fly back to the music store to pay his debt. When he got there the music man shot Louise’s father and he was bleeding. In a few  minutes he had passed out. Then everybody was having a argument, but in a few minutes they  had decided that the music man would get the money so he could replace the damage in his music store. After that Louise's father was at the hospital. When he saw that he was fixing to get a shot he realized he was not sick anymore so he flew back to the Red Rock Lakes. So in the meantime Louis had babies with Serena and year after year they had them again. And that was how it went till the end of time. </a:t>
            </a:r>
            <a:endParaRPr b="0" lang="en-US" sz="2200" spc="-1" strike="noStrike">
              <a:solidFill>
                <a:srgbClr val="000000"/>
              </a:solidFill>
              <a:latin typeface="Times New Roman"/>
            </a:endParaRPr>
          </a:p>
          <a:p>
            <a:pPr marL="272880" indent="-27288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272880" indent="-272880">
              <a:lnSpc>
                <a:spcPct val="80000"/>
              </a:lnSpc>
              <a:spcBef>
                <a:spcPts val="550"/>
              </a:spcBef>
              <a:buClr>
                <a:srgbClr val="a04da3"/>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6T08:54:57Z</dcterms:created>
  <dc:creator>Guest</dc:creator>
  <dc:description/>
  <dc:language>en-US</dc:language>
  <cp:lastModifiedBy>Guest</cp:lastModifiedBy>
  <dcterms:modified xsi:type="dcterms:W3CDTF">2009-12-05T14:23:40Z</dcterms:modified>
  <cp:revision>63</cp:revision>
  <dc:subject/>
  <dc:title>Trumpet Of The Swan</dc:title>
</cp:coreProperties>
</file>